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ucational Research: Competencies for Analysis and Application, 9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ay, Mills, &amp; Ai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38680" y="638496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2009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1B04-8E55-4BAD-9AB1-22A5EA5686C0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61320" y="6362640"/>
            <a:ext cx="1130400" cy="419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1430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17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Case Study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case study, and describe the characteristics of case study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the processes involved in designing and conducting a case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se Study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reening ste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ew documents about the proposed case study s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uct informal interviews with key participa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if participants have the experience and knowledge to contribute to the case stud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se Study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study researchers use the same data collection techniques as do other  qualitative research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collection techniques are selected to answer ‘how’ and ‘why’ ques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ultiple case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often common to find case study research that studies the same phenomenon at multiple sites (i.e., multicase, multisite, comparative case studie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ses improve external valid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ses allow for greater understanding of context consider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se studies require cross-site analysi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ultiple case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oss-site analysis strate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ordered meta-matr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charts with descriptive data from each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dog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ordered descriptive matr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meta-matrix based upon critical variable of inte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ultiple case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-ordered predictor-outcome matr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more explanation and interpre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-ordered meta-matr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chronology as an organizing variable for a meta-matri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tterpl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ual displays of data from all the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upon dimensions or the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ultiple case stud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-ordered effects matr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ents potential cause-effect rel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ents manifest functions, latent functions, unintended consequ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al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case stud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ents possible cause-effect relations among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se Study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study research is an all-encompassing method that includes specific design, data collection, and data analys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study also refers to the product of the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study research yields concrete knowledge that readers personally relate to their own experience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se Study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study research is a qualitative approa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study research focuses on a bounded system or unit of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study research is not a methodological choice.  It is a choice of what to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study research is an all-encompassing research metho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se Study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study research is appropriate when the researcher wants to answer a descriptive or an explanatory ques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hat challenges does a department face as they integrate instructional technology for blended learning?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02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aracteristics of Case Study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studies focus on a particular phenomen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studies include thick description of the case and include many variables and analyses of their interac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studies provide new insights to the researcher and the participa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study approaches can vary by specific discipli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esigning case study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the research ques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ing the questions is a critical step in case study resear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study research questions address who, what, how, and wh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the case under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is step the researcher defines the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nits of analyses for the case are also determi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esigning case study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the role of theory development in case sel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includes making a decision about whether or not to use theory development in selecting ca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the theoretical and conceptual framework of the case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theories from literature and researchers’ personal theories influence case stud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esigning case study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single case study; a multiple case study; or a collective case study is appropri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ase study research, the number of cases is not determin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prior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ing the number of cases does not correspond to increased rig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se Study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y research generally employs purposive sampling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s are selected because they can provide information regarding the research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reening is used to determine if a potential participant has the necessary experience and knowledge of the phenomenon under investigation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a Robb</cp:lastModifiedBy>
  <dcterms:modified xsi:type="dcterms:W3CDTF">2008-05-19T13:48:11Z</dcterms:modified>
  <cp:revision>93</cp:revision>
  <dc:subject/>
  <dc:title>AutoCAD Architecture 2008: Part I: Getting Started</dc:title>
</cp:coreProperties>
</file>